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FC8-C481-4F5D-97AA-67BDD406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8FE-9139-4C6C-A0DB-734D49BE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3AE-9A2E-4B6F-8D41-AB961D15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AFF-7A33-4F0C-A044-955822E6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47F-17E9-477D-B794-663D0A00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DF1-3661-403A-8AA7-DE0DE5AB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15B-0BCA-4742-9DFD-CD990272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C54A-9155-4264-A837-D49EF338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CA7A-944A-4408-BA1C-88116811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7DD-C419-4F1A-B010-2B1F9E8D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683-B912-4029-8F24-8A956114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7BB-EF1D-44FA-AFC9-E250127E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4CAE-FE97-41F0-900D-078C32495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8.xml"/><Relationship Id="rId4" Type="http://schemas.openxmlformats.org/officeDocument/2006/relationships/slide" Target=""/><Relationship Id="rId5" Type="http://schemas.openxmlformats.org/officeDocument/2006/relationships/slide" Target="slide10.xml"/><Relationship Id="rId6" Type="http://schemas.openxmlformats.org/officeDocument/2006/relationships/slide" Target=""/><Relationship Id="rId7" Type="http://schemas.openxmlformats.org/officeDocument/2006/relationships/slide" Target="slide15.xml"/><Relationship Id="rId8" Type="http://schemas.openxmlformats.org/officeDocument/2006/relationships/slide" Target=""/><Relationship Id="rId9" Type="http://schemas.openxmlformats.org/officeDocument/2006/relationships/slide" Target="slide16.xml"/><Relationship Id="rId10" Type="http://schemas.openxmlformats.org/officeDocument/2006/relationships/slide" Target=""/><Relationship Id="rId11" Type="http://schemas.openxmlformats.org/officeDocument/2006/relationships/slide" Target="slide14.xml"/><Relationship Id="rId12" Type="http://schemas.openxmlformats.org/officeDocument/2006/relationships/slide" Target=""/><Relationship Id="rId13" Type="http://schemas.openxmlformats.org/officeDocument/2006/relationships/slide" Target="slide18.xml"/><Relationship Id="rId14" Type="http://schemas.openxmlformats.org/officeDocument/2006/relationships/slide" Target=""/><Relationship Id="rId15" Type="http://schemas.openxmlformats.org/officeDocument/2006/relationships/slide" Target="slide11.xml"/><Relationship Id="rId16" Type="http://schemas.openxmlformats.org/officeDocument/2006/relationships/slide" Target=""/><Relationship Id="rId17" Type="http://schemas.openxmlformats.org/officeDocument/2006/relationships/slide" Target="slide12.xml"/><Relationship Id="rId18" Type="http://schemas.openxmlformats.org/officeDocument/2006/relationships/slide" Target=""/><Relationship Id="rId19" Type="http://schemas.openxmlformats.org/officeDocument/2006/relationships/slide" Target="slide13.xml"/><Relationship Id="rId20" Type="http://schemas.openxmlformats.org/officeDocument/2006/relationships/slide" Target=""/><Relationship Id="rId21" Type="http://schemas.openxmlformats.org/officeDocument/2006/relationships/slide" Target="slide9.xml"/><Relationship Id="rId22" Type="http://schemas.openxmlformats.org/officeDocument/2006/relationships/slide" Target=""/><Relationship Id="rId23" Type="http://schemas.openxmlformats.org/officeDocument/2006/relationships/slide" Target="slide17.xml"/><Relationship Id="rId24" Type="http://schemas.openxmlformats.org/officeDocument/2006/relationships/slide" Target=""/><Relationship Id="rId25" Type="http://schemas.openxmlformats.org/officeDocument/2006/relationships/slide" Target="slide7.xml"/><Relationship Id="rId26" Type="http://schemas.openxmlformats.org/officeDocument/2006/relationships/hyperlink" Target="file:///tmp/home/.config/libreoffice/4/user/gallery/WHOOSH.WAV" TargetMode="External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slide20.xml"/><Relationship Id="rId30" Type="http://schemas.openxmlformats.org/officeDocument/2006/relationships/slide" Target=""/><Relationship Id="rId31" Type="http://schemas.openxmlformats.org/officeDocument/2006/relationships/slide" Target="slide21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your nam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type of bonding that occ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tween the two strands of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522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ydrogen bond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571500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tpourri $2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3716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enine, guanin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ymine, &amp; cytos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4 nitrogenous bases that make up the DNA molecu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57150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of Life $3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transcribe DNA and car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essage out of the nucleu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the rib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function of mR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54864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er of Bluepr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3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lypeptide 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bond joins amino acids in a prote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54100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or of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3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rocess whereby a D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nd serves as a template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formation of mR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ranscrip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571500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tpourri $3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ubunit of DNA or RNA tha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up of a simple sugar,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sphate group, and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nucleot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57150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of Life $4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2952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has only 1 stran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 uracil instead of thymin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is not in the shape of a hel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0628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the structure of the RNA molecule different from the DNA molecu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54864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er of Bluepr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organelle where protei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m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ribos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54100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or of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rocess whereby ribosom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the sequence of codons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RNA to produce a prote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a particular seque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amino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rans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571500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tpourri $4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genetic material of near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living things that prov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blueprints for th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function of organisms &amp;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ssed on from generatio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r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57150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of Life $5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3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3" action="ppaction://hlinksldjump"/>
              </a:rPr>
              <a:t>4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76320"/>
            <a:ext cx="16002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dder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76320"/>
            <a:ext cx="190476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er of Bluepr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76320"/>
            <a:ext cx="236196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or of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76320"/>
            <a:ext cx="1752840" cy="1169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tpour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2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2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4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4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6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7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8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0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50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2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600" y="127332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3434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nucleic acid polymer form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y bonded nucleotides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tain the sugar rib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R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54864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er of Bluepr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5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building blocks of 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amino aci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54100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or of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5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rotein that change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te of a chemical re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enzy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571500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tpourri $5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19920" y="571464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of Life $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double helix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hape of the DNA molecu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str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number of strands makes up the RNA molecu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54100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er of Bluepr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molecule consisting of one 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re polypept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rote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54100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or of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gar-phosphate backb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akes up the sides of the DNA lad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571500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tpourri $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 stra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number of strands make up the DNA molecu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57150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of Life $2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fer R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ssenger R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bosomal R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3 kinds of R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54864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er of Bluepr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2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amino group (-N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carboxyl group (-COOH)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variable group (-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3 parts of an amino ac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54100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or of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$2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 </cp:lastModifiedBy>
  <cp:lastPrinted>2001-01-31T16:21:13Z</cp:lastPrinted>
  <dcterms:modified xsi:type="dcterms:W3CDTF">2008-04-08T17:10:17Z</dcterms:modified>
  <cp:revision>6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